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340-CBB9-41C8-A3F9-A8B4BE6A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5A4-730D-4D4B-99CD-8C723CB2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569-18C1-42C5-AC3B-B4B50CDA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88B-9A9A-46B2-89B7-5CA4814F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4BC-2F8C-44F3-A9CF-BFB18FFA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2EB-80DD-49E6-BB06-8E9BD6CB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255-8EF4-40E9-8FFB-2E7FE607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E3B-6E98-43EF-A482-8F6ACC33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A18-1ECC-4BE3-88AD-DAAACDBD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3C3-E443-4604-93CE-2CEA2C00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0B3-CD46-42C1-B529-CE65E3F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0FC-A059-4F4B-9D80-F16E264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57FC-1805-48E9-8519-FE1717A24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4 Verný a stály s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náš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otcovskou vernosť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nás sa star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búdzaj túžbu 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ebou í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púšťaš hriechy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lúdilých hľad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vždy si žiada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raz pr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 si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k nám stálu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vojou cirkvou bdi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áňaš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 tvojej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, čo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ú vďačnosť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ŕdc vlej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 a stály s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náš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, často never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predsa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prijať úprim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ďakov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o, že láska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nás vždy db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 si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k nám stálu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vojou cirkvou bdi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áňaš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 tvojej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, čo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ú vďačnosť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ŕdc vlej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divy v príro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ebe svedč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, česť vzdáva 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vorenstva hl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ôže láska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tvoju väčš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j svit je vzácnejš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lnk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 si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k nám stálu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vojou cirkvou bdi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áňaš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 tvojej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, čo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ú vďačnosť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ŕdc vlej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01:27Z</dcterms:modified>
  <cp:revision>29</cp:revision>
  <dc:subject/>
  <dc:title>Je veľký náš Pán, on slávy je Kráľ Nech do všetkých strán  spev vrúcnych znie chvál.</dc:title>
</cp:coreProperties>
</file>